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254-88BA-4694-A17A-A5F507AC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87B-D11A-45C5-A104-C3859048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7AE-3BF3-49B1-AE99-05FCF58A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A06-EAA2-4802-B6AE-079FA6E0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F34-B064-4ABE-8F40-D7EA34AA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1C7-39D6-4518-BA0B-1A23841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4A4-46E6-4FAA-B580-F5D465C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F6B-B0C7-49A6-9915-5FC005FF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937-66D1-4407-B6F0-37B12E40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196-827F-4275-8F2E-808B32A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231-5AC4-4B38-B615-4D31067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9A3-3FD4-4AFC-9C70-CDD158C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DC75-DCDB-4CB4-8E55-239F8A39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9630" t="33675" r="0" b="2349"/>
          <a:stretch/>
        </p:blipFill>
        <p:spPr>
          <a:xfrm>
            <a:off x="1066680" y="1447920"/>
            <a:ext cx="7391520" cy="369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12:47Z</dcterms:created>
  <dc:creator>student305</dc:creator>
  <dc:description/>
  <dc:language>en-US</dc:language>
  <cp:lastModifiedBy>student305</cp:lastModifiedBy>
  <dcterms:modified xsi:type="dcterms:W3CDTF">2010-03-23T05:22:48Z</dcterms:modified>
  <cp:revision>2</cp:revision>
  <dc:subject/>
  <dc:title>Slide 1</dc:title>
</cp:coreProperties>
</file>